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CA87-25AE-491E-BAAC-16D006CBC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8F1B-876A-4A19-944D-0CB17FF7A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0C42-4C65-46E6-A80F-6E7E8BC89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5C56-73E7-4A02-854C-E32AB045B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AE9CE-F2DC-4DAD-93D3-7C31D064C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C3BCE-6500-404B-8BE5-2B17E87F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85A7-689C-49F7-90C9-218CF783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00A94-C69F-4709-B40B-EF8B3488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64E9-A84D-4CDC-8A70-4DD94DF3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9E7B-33A6-4748-BA93-2D8EF8C7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A005-A9FA-4FBB-9923-3F97CB4C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EA5F-1DBD-4061-BDEE-59DCEB0D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2B7A-945C-4A55-9E4C-2070E340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9BBB-32C9-4354-821F-02C85779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AC9D-0603-4E53-ACC4-86004DAE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73E21-6C23-4D50-A30F-B63E62D59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B29F-CAD4-460C-B124-C6EB074C7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BD3FD-EFBD-43AB-B64D-2EFFEE874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0898F-4F0A-4D09-9040-540A3136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AC204-E5CF-4A17-A86A-CC84F07D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8FA89-9BBD-4419-9E53-D9712003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5487E-F9BF-4877-9464-F04C5D83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40BB-B511-4DA9-92A5-32B0B3C6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096D2-3509-4663-A6B6-2D53BC91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54749-DA68-4E4B-83E6-5F8628DE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0650E-4F0D-4643-974F-DCA83957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9351A-99A0-4219-9BE6-0EDA46B8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E2BBC-48A6-4C01-B556-F2CAE74F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07A47-8DBA-4865-A6FC-ED198BBEC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97B74-1513-4632-8937-EC8AC6C9D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8089A-BD28-4524-940F-4643B6A09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0432C-36CA-4781-878D-3B5BDDAE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82928-45DA-45D7-8609-6066569E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9463-C0B6-49CA-835B-3B527B27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14F26-DBC0-4276-9B25-06E0A352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A28FB-DBDE-4A11-AF6A-B75F244B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DB220-57AA-4C0B-A2EA-1F3CF3DC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E5AFE-F79F-4279-B9C8-149BD21A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297E4-1D95-4D04-85B1-1203EF00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527DA-632E-45FA-BF4C-D2708A6B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A7FDB-841B-428A-B3B0-40410C0F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971F5-147E-4C58-A6B1-1C305C5F5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1E64D-ADA9-4D9C-AEBC-F53EB23EB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7538C-751A-4E7D-B518-9D6262188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5E09-2BB0-4063-ABC0-0FE05DA0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A7A36-3C27-44A6-B73B-63BC3AA7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4E34F-15B0-4FCF-A43E-DFC0D2DF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EC0FB-5A6D-4456-9A02-B3797A87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DD34F-86BF-449E-A5F0-F076F3F6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7A9FC-584D-4B9A-9FF2-5471DA41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D934A-A96B-4D7C-9483-5FAD84D8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7CBAB-A6E8-4EB3-BB82-8A4583AD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2DA57-2A7E-49CD-97F1-572A7EEA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8C56D-57B4-4D12-BDED-3021F29D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A553F-F480-4FC1-BBEE-DBB101B95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B8D9-5C3C-4941-B57A-4E51C094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2AF6A-D546-46FB-9F88-CDD7E04A2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39FB-DDA7-466C-A59F-3285C695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83F0-5C7E-4878-B28D-F603A500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5D14-73D7-4717-96F5-82B3DD5D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B2846F-FCF2-47C7-ABD7-469BBBACB037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A7BEBD-6128-4715-9194-4EF241B7791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00E534-4635-412A-BE92-2CBADDCD2B9D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6B166E-6397-4F7D-B3CD-929771FBB82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55440" y="60480"/>
            <a:ext cx="9033120" cy="6711840"/>
            <a:chOff x="55440" y="60480"/>
            <a:chExt cx="903312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55440" y="60480"/>
              <a:ext cx="903312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74BF5B-0E91-432B-9F42-749437EB1016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DCC19E-9CCF-408B-8A6F-7EC51DB396D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4D2229-2819-4445-855F-330363F2A088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B15C66-3251-412F-A858-ACF80C18983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D097A8-2E7A-4A90-BD15-EB66873C5911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1A1F42-4D0B-4544-90E2-A056EC2A055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… </a:t>
            </a: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and how can I use them to measure student learning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What are Formative Assessments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y Formative Assessment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elps you check on student prog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llows you to provide mid-teaching corre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easures student learn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 are formative assessments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eacher observa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Ques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Journal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Quick Writ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Quizz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omework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lf Assessme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asswork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ules to Remember…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plain why the assignment is valuable for learn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cus on quality not quantit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Vary the types of assignme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sider your students’ need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ever use as a punish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ovide prompt feedback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y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ive students feedback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ere are they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ere do they need to be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mments that students can use to improv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mments should facilitate further learn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96464"/>
                </a:solidFill>
                <a:uFillTx/>
                <a:latin typeface="Franklin Gothic Book"/>
              </a:rPr>
              <a:t>S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udent </a:t>
            </a:r>
            <a:r>
              <a:rPr b="0" lang="en-US" sz="4000" spc="-1" strike="noStrike" u="sng">
                <a:solidFill>
                  <a:srgbClr val="696464"/>
                </a:solidFill>
                <a:uFillTx/>
                <a:latin typeface="Franklin Gothic Book"/>
              </a:rPr>
              <a:t>L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arning </a:t>
            </a:r>
            <a:r>
              <a:rPr b="0" lang="en-US" sz="4000" spc="-1" strike="noStrike" u="sng">
                <a:solidFill>
                  <a:srgbClr val="696464"/>
                </a:solidFill>
                <a:uFillTx/>
                <a:latin typeface="Franklin Gothic Book"/>
              </a:rPr>
              <a:t>A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alys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urpose:  To administer a formative assessment, analyze the results, and prepare a plan for instru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eacher Lett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chedule the Assessment (Activity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dentify the learning goals/outcomes (minimum of 2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cord what happens during the assess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core the Assessment (Activity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-------------------------------------------------------------------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nalyze the resul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hare the results with your C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rite the repor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6:12:57Z</dcterms:created>
  <dc:creator>EMU User</dc:creator>
  <dc:description/>
  <dc:language>en-US</dc:language>
  <cp:lastModifiedBy>EMU User</cp:lastModifiedBy>
  <dcterms:modified xsi:type="dcterms:W3CDTF">2011-01-26T16:49:07Z</dcterms:modified>
  <cp:revision>1</cp:revision>
  <dc:subject/>
  <dc:title>What are Formative Assessments?</dc:title>
</cp:coreProperties>
</file>